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266E-F659-43BB-9FAA-778900029ADA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FDC2-2AC6-40DF-9027-2AD65C305FEC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1321-32EC-443D-B976-85880DCC53F1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A6BD-98D5-4DFA-BDE1-F0F330996AD0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5438-DC5E-45CE-A162-81DBEFB95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AB4D-8F63-4CF7-B41F-DE6452AB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67E7-003E-48BB-AA72-7215A6F2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600F-52EC-4696-A560-A77C38123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DAD9-F770-400F-9522-722137A3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725F-0B77-4CF9-8CCC-F6402F20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2512-80B1-48C7-8EFC-CFA46BC1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9B70-B33F-4F4A-881A-32358672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F8FD-74B7-40DE-95FF-2A88FFDE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9334-8ABC-4434-A170-9BC77690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7623-07C6-4AFD-BCCA-26BC5CC8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0B89-AB2E-4F91-8558-165E1C51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10A1-A27F-4578-9803-72B5DB43DE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8713-59D0-4D84-A1E6-D9F6A3714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ariff-based competitive bidding for procurement of 2000 MW of solar power in Telangana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d Deadline : 15 May 2015, 17:00 H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Arial"/>
                <a:ea typeface="Arial"/>
              </a:rPr>
              <a:t>Authorized Representative: TSSPDC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Arial"/>
                <a:ea typeface="Arial"/>
              </a:rPr>
              <a:t>(Southern Power Distribution Company of Telangana Limite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Arial"/>
                <a:ea typeface="Arial"/>
              </a:rPr>
              <a:t>Procurers: TSSPDCL and TSNPDC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752480" y="5943600"/>
          <a:ext cx="6096240" cy="7318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Note</a:t>
                      </a:r>
                      <a:r>
                        <a:rPr b="1" lang="en-US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: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e terms and conditions mentioned in this PPT are subject to revised RfS and PPA to be uploaded so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52280" y="990360"/>
            <a:ext cx="876312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All Bid parameters are ranked from lowest to highest and allocation shall start from Bidder with first rank i.e. </a:t>
            </a:r>
            <a:r>
              <a:rPr b="1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lowest tariff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. In case bid parameters for two bids is the same, then the  bid corresponding to </a:t>
            </a:r>
            <a:r>
              <a:rPr b="1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higher offered capacity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will be given better rank. If both bid parameter and offered capacity are the same, bidder demonstrating </a:t>
            </a:r>
            <a:r>
              <a:rPr b="1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higher net worth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is given prefer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Multiple Financial Bids can be submitted by the Bidder. But allocation will happen in the stacking order of bid parameter only. Hence a bidder may have more than one position in the ranking order depending on the number of financial bids submit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aluation of Bids and allocation of Interconnection Substations (1/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3600360" y="4038480"/>
            <a:ext cx="1866960" cy="1908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LLU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74680" y="4267080"/>
          <a:ext cx="8443800" cy="2479680"/>
        </p:xfrm>
        <a:graphic>
          <a:graphicData uri="http://schemas.openxmlformats.org/drawingml/2006/table">
            <a:tbl>
              <a:tblPr/>
              <a:tblGrid>
                <a:gridCol w="1785960"/>
                <a:gridCol w="1035000"/>
                <a:gridCol w="917640"/>
                <a:gridCol w="917640"/>
                <a:gridCol w="917280"/>
                <a:gridCol w="917640"/>
                <a:gridCol w="919080"/>
                <a:gridCol w="1033560"/>
              </a:tblGrid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d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 Parameter (Rs/uni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red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 (Rs C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C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 C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</a:tr>
            </a:tbl>
          </a:graphicData>
        </a:graphic>
      </p:graphicFrame>
      <p:sp>
        <p:nvSpPr>
          <p:cNvPr id="78" name="Oval 9"/>
          <p:cNvSpPr/>
          <p:nvPr/>
        </p:nvSpPr>
        <p:spPr>
          <a:xfrm>
            <a:off x="6515280" y="4452840"/>
            <a:ext cx="2171520" cy="1947960"/>
          </a:xfrm>
          <a:prstGeom prst="ellipse">
            <a:avLst/>
          </a:prstGeom>
          <a:noFill/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/>
          <p:cNvSpPr/>
          <p:nvPr/>
        </p:nvSpPr>
        <p:spPr>
          <a:xfrm>
            <a:off x="3809880" y="4529160"/>
            <a:ext cx="2133720" cy="1185840"/>
          </a:xfrm>
          <a:prstGeom prst="ellipse">
            <a:avLst/>
          </a:prstGeom>
          <a:noFill/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976A-6FD2-4B6C-8598-4C01DBF098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llustration</a:t>
            </a:r>
            <a:br>
              <a:rPr sz="4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Numbers and values used for substations are purely representativ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5C10-8DEF-4476-8C9E-8B45F2C727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85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(150/15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88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10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91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94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 in MW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1"/>
          <p:cNvSpPr/>
          <p:nvPr/>
        </p:nvSpPr>
        <p:spPr>
          <a:xfrm>
            <a:off x="4618080" y="838080"/>
            <a:ext cx="208764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1"/>
          <p:cNvSpPr/>
          <p:nvPr/>
        </p:nvSpPr>
        <p:spPr>
          <a:xfrm>
            <a:off x="60480" y="72396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2577600" y="32209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hadnagar can accommodate B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0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3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6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9542-CEB8-4F57-B36C-376B77322B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76 -1.48148E-006 L 0.0448 0.18125 C 0.05764 0.21968 0.06476 0.27662 0.06476 0.33634 C 0.06476 0.40417 0.05764 0.4581 0.0448 0.49653 L -0.01076 0.67824 E">
                                      <p:cBhvr>
                                        <p:cTn id="12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114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</a:t>
              </a: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70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117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10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120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123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9"/>
          <p:cNvSpPr/>
          <p:nvPr/>
        </p:nvSpPr>
        <p:spPr>
          <a:xfrm>
            <a:off x="122400" y="54784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1"/>
          <p:cNvSpPr/>
          <p:nvPr/>
        </p:nvSpPr>
        <p:spPr>
          <a:xfrm>
            <a:off x="4618080" y="838080"/>
            <a:ext cx="208764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2570400" y="322092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Veltoor can accommodate 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ounded Rectangle 30"/>
          <p:cNvSpPr/>
          <p:nvPr/>
        </p:nvSpPr>
        <p:spPr>
          <a:xfrm>
            <a:off x="228600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6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7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8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0FA5-393A-4A25-B7C4-0848B3D12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76 -4.44444E-006 L -0.04288 0.18125 C -0.05 0.21945 -0.05399 0.27662 -0.05399 0.33635 C -0.05399 0.40394 -0.05 0.45811 -0.04288 0.4963 L -0.01076 0.67778 E">
                                      <p:cBhvr>
                                        <p:cTn id="2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143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70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146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149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152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9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0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1"/>
          <p:cNvSpPr/>
          <p:nvPr/>
        </p:nvSpPr>
        <p:spPr>
          <a:xfrm>
            <a:off x="461808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209520" y="2981160"/>
            <a:ext cx="36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hadnaga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Isosceles Triangle 1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3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3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6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7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ounded Rectangle 30"/>
          <p:cNvSpPr/>
          <p:nvPr/>
        </p:nvSpPr>
        <p:spPr>
          <a:xfrm>
            <a:off x="449568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B4C4-1753-4608-89D7-62858E9618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174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70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177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180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183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0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461808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70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"/>
          <p:cNvSpPr/>
          <p:nvPr/>
        </p:nvSpPr>
        <p:spPr>
          <a:xfrm>
            <a:off x="209520" y="2981160"/>
            <a:ext cx="36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hadnaga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Isosceles Triangle 1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3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7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8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3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ounded Rectangle 30"/>
          <p:cNvSpPr/>
          <p:nvPr/>
        </p:nvSpPr>
        <p:spPr>
          <a:xfrm>
            <a:off x="449568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D74E-82E5-46EE-980D-C2989618D5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48148E-006 L -0.4941 0.73333 E">
                                      <p:cBhvr>
                                        <p:cTn id="46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207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</a:t>
              </a: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210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213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216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1"/>
          <p:cNvSpPr/>
          <p:nvPr/>
        </p:nvSpPr>
        <p:spPr>
          <a:xfrm>
            <a:off x="122400" y="5857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7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8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3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ounded Rectangle 30"/>
          <p:cNvSpPr/>
          <p:nvPr/>
        </p:nvSpPr>
        <p:spPr>
          <a:xfrm>
            <a:off x="449568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4"/>
          <p:cNvSpPr/>
          <p:nvPr/>
        </p:nvSpPr>
        <p:spPr>
          <a:xfrm>
            <a:off x="235800" y="2981160"/>
            <a:ext cx="87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3 selected 70 MW at Shadnagar in First Round and did not participate in the Second 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FCFE-AABD-4450-B942-1DAD6CFB3E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238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(0/15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241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244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247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4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5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1"/>
          <p:cNvSpPr/>
          <p:nvPr/>
        </p:nvSpPr>
        <p:spPr>
          <a:xfrm>
            <a:off x="122400" y="5857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2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ounded Rectangle 30"/>
          <p:cNvSpPr/>
          <p:nvPr/>
        </p:nvSpPr>
        <p:spPr>
          <a:xfrm>
            <a:off x="6651720" y="72396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7"/>
          <p:cNvSpPr/>
          <p:nvPr/>
        </p:nvSpPr>
        <p:spPr>
          <a:xfrm>
            <a:off x="204120" y="2981160"/>
            <a:ext cx="33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Isosceles Triangle 38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3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4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CF0A-4F31-46D1-95A8-10485DF70E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271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(0/15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274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277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280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4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5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1"/>
          <p:cNvSpPr/>
          <p:nvPr/>
        </p:nvSpPr>
        <p:spPr>
          <a:xfrm>
            <a:off x="122400" y="5857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2"/>
          <p:cNvSpPr/>
          <p:nvPr/>
        </p:nvSpPr>
        <p:spPr>
          <a:xfrm>
            <a:off x="6751800" y="84924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50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ounded Rectangle 30"/>
          <p:cNvSpPr/>
          <p:nvPr/>
        </p:nvSpPr>
        <p:spPr>
          <a:xfrm>
            <a:off x="6651720" y="72396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37"/>
          <p:cNvSpPr/>
          <p:nvPr/>
        </p:nvSpPr>
        <p:spPr>
          <a:xfrm>
            <a:off x="204120" y="2981160"/>
            <a:ext cx="33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Isosceles Triangle 38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3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4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"/>
          <p:cNvSpPr/>
          <p:nvPr/>
        </p:nvSpPr>
        <p:spPr>
          <a:xfrm>
            <a:off x="-47520" y="3479760"/>
            <a:ext cx="36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4 opted to participate in 2nd 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 balance 50 M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BF14-76EF-4271-A02D-CCA9149F2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-4.81481E-006 L -0.47986 0.7338 E">
                                      <p:cBhvr>
                                        <p:cTn id="52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  <a:ea typeface="Arial"/>
              </a:rPr>
              <a:t>Authorized Representative: TSSPDC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urpose of this presentation 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a summar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the Bid Model for the Telangana solar tender. The model essentially revolves around a distributed generation format with projects connected at 33kV, 132 kV and 220 kV voltage leve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idders have to rely on the bid documents available on the website for all the terms and conditions applicable for the Bid. This presentation only provides a quick overview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not comprehensiv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 nature. In the event of any discrepancy between this presentation and the bid documents, the bid documents will overrule this docu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attempts to provide clarifications on some of the queries raised by the Bidders but Bidders should solely rely on the clarifications/amendments issued by the Authorized Representative on the eProcurement platform/website as the case may 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37B3-D097-4B80-A537-AB9655AF5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" y="0"/>
          <a:ext cx="8839080" cy="6616800"/>
        </p:xfrm>
        <a:graphic>
          <a:graphicData uri="http://schemas.openxmlformats.org/drawingml/2006/table">
            <a:tbl>
              <a:tblPr/>
              <a:tblGrid>
                <a:gridCol w="2819520"/>
                <a:gridCol w="6019560"/>
              </a:tblGrid>
              <a:tr h="3873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Project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W at 33/11 kv sub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Project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MW on double circuit line at 220/132 kV or 400/220 kV sub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V (technology agnostic within P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R 10 Lakhs/MW through BG (210 days from bid deadline) for each Financial B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case of foreign companies, Indian affiliate can furnish bank guarantee along with additional documents mention in R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ing F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 Thousand (Rs 10,000/-) per MW of Offered Capacity subject to a maximum of Rs One Lakh (Rs 1,00,000) for each B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ance Bank Guaran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R 20 Lakhs/MW per Project in three BG (15%, 35% and 50%) valid for 18 months from signing of PPA (PBG to be submitted within 30 days of issue of LOI failing which EMD will be forfeit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30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gi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Eligibility: Commercial and technically proven technologies to be adop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th: INR 2 crore/MW of Bid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ies, Partnerships, Individuals, foreign companies, LLC are elig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brid Consortiums are not eligible for participation in this RF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s, foreign companies, foreign individuals must create project companies with equity infused to INR 0.6 Cr/MW by PPA signing and INR 1.4 Cr/MW by financial clo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3653-F66B-422A-88B6-95AE8D31F7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52280" y="304920"/>
          <a:ext cx="8839440" cy="5940360"/>
        </p:xfrm>
        <a:graphic>
          <a:graphicData uri="http://schemas.openxmlformats.org/drawingml/2006/table">
            <a:tbl>
              <a:tblPr/>
              <a:tblGrid>
                <a:gridCol w="2819520"/>
                <a:gridCol w="6019920"/>
              </a:tblGrid>
              <a:tr h="111924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 ID proof and Address Proof for Indian natio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port copy for Foreign natio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returns for past 4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ertificate for demonstrating net w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88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 Fir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ed accounts for past 4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ertificate demonstrating net w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 d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of attorney in favour of authorized signa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5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ed accounts for past 4 years for financially evaluated ent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ertificate demonstrating net w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rporation documents (CoI, MoA and Ao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of attorney/Board Resolution in favour of authorized signa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ard Resolution of affiliate if financials are used for meeting minimum networth require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668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orti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h member of consortium must submit the above documents as applic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of attorney in favour of lead member (Individuals and Partnership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ard Resolution/Power of Attorney in favour of Lead Member for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3636-E282-45F9-8753-BBCE53ACF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28600" y="158760"/>
          <a:ext cx="8686800" cy="6165720"/>
        </p:xfrm>
        <a:graphic>
          <a:graphicData uri="http://schemas.openxmlformats.org/drawingml/2006/table">
            <a:tbl>
              <a:tblPr/>
              <a:tblGrid>
                <a:gridCol w="3048120"/>
                <a:gridCol w="5638680"/>
              </a:tblGrid>
              <a:tr h="336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A bas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PPA issued in April 2015 with relevant modification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 of P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years from CO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period for commission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onths from signing of P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period for financial closure and conditions subsequ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days from signing of P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th infu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 of requirement before PPA execution and balance before financial closu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location/si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be changed till financial closu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obligations of develop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taining all consents and clearan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ing, financing, construction, owning and operating the power st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interconnection facilities till Interconnection poi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ng and maintenance of power plant to conform with RLDC/SLDC/TSTRANSCO/IEGC norm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penalties for lower CU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beyond 25% CUF will be billed at 50% of applicable tariff for that ye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Dispatc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energy for DISCOMS’ exclusive benef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ed Energy prior to COD shall be purchased at Quoted Tarif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ment term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ly bill payment. Rebate and Late payment interest provided</a:t>
                      </a:r>
                      <a:br>
                        <a:rPr sz="1500"/>
                      </a:b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ment security is letter of cred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CEAF-AD8E-45B6-96D0-D17B2A2B48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ief Overview and Project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685800"/>
          <a:ext cx="8229600" cy="5994360"/>
        </p:xfrm>
        <a:graphic>
          <a:graphicData uri="http://schemas.openxmlformats.org/drawingml/2006/table">
            <a:tbl>
              <a:tblPr/>
              <a:tblGrid>
                <a:gridCol w="1143000"/>
                <a:gridCol w="7086600"/>
              </a:tblGrid>
              <a:tr h="368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 Loc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der is free to set up Projects anywhere in the St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/Project site can be changed until financial closu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 capac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W at Delivery Voltage of 33 kV at 33/11kV subs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MW (double circuit line) 220 kV Delivery Voltage at 400/220 kV subs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Capacity Limits defined at each voltage level and at each s/s category under Annexure 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connection Subs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5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ingle Project shall be connected to a single Interconnection Substation. It is the onus of the Bidder to demonstrate that Project(s) proposed have distinct boundaries, to the satisfaction of the Authorized Representati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t any substation can have multiple projects connected to it depending on available capacity specified in the Rf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der shall submit a List of Preferred Interconnection Substations (At least 1 and upto 10) where he intends to connect the entire Offered Capac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ocation (in order of bid parameter) shall be done in the order of the preference li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fter issue of LOI, Interconnection Substation cannot be chang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C222-6878-46F5-829B-6577682B10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106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iff, Evaluation and Pay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04920" y="609480"/>
          <a:ext cx="8686800" cy="3368880"/>
        </p:xfrm>
        <a:graphic>
          <a:graphicData uri="http://schemas.openxmlformats.org/drawingml/2006/table">
            <a:tbl>
              <a:tblPr/>
              <a:tblGrid>
                <a:gridCol w="2666880"/>
                <a:gridCol w="3200400"/>
                <a:gridCol w="2819520"/>
              </a:tblGrid>
              <a:tr h="353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ff Options (all tariffs for evaluation and payment shall be on Tariff Year basi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ff Year shall mean 365 days from COD and last Tariff Year shall end on expiry of PP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</a:tr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form Tarif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der quotes a single Quoted Tariff uniformly applicable for the entire term of PP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 Parameter is Quoted Tarif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oted Tariff shall be applicable for the entire term of the PP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Delivered energy prior to the COD of the Project shall be purchased at tariff of first Tariff Year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04920" y="4373640"/>
            <a:ext cx="8686800" cy="24541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304920" y="4038480"/>
            <a:ext cx="8686800" cy="335160"/>
          </a:xfrm>
          <a:prstGeom prst="rect">
            <a:avLst/>
          </a:prstGeom>
          <a:solidFill>
            <a:srgbClr val="e5f4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iling Tar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97C4-CBE8-49EE-B912-2DE5418ED2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oup 1 Bids (injecting at 33/11 kV s/s) and Group 2 Bids (injecting at EHT s/s of 132/33 kV and above) shall be evaluated separately and process of allocation will be separate for these two Grou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location will be undertaken for Group 1 Bids first, followed by Group 2 Bi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9DED-07BB-4821-BE1C-044A266E8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0240" y="685800"/>
            <a:ext cx="5989680" cy="55213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triction on capacity limit for distri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6073920" y="1184400"/>
            <a:ext cx="289548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rict capacity constraint supersedes sum of all substation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llu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hbubnagar’s capacity for group I i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capacities of s/s (132/33 kV) under Mahbubnagar i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2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pacities shall be allocated till 100 MW an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227 MW in Mahbub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141D-3DA6-4257-965A-70188CD466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0240" y="6186600"/>
            <a:ext cx="591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he Authorized Representative reserves the right to change the Requisitioned Capacity as specified abo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KPMG</dc:creator>
  <dc:description/>
  <dc:language>en-US</dc:language>
  <cp:lastModifiedBy>ipc</cp:lastModifiedBy>
  <dcterms:modified xsi:type="dcterms:W3CDTF">2015-04-22T08:34:29Z</dcterms:modified>
  <cp:revision>211</cp:revision>
  <dc:subject/>
  <dc:title>Competitive bidding for procurement of 500 MW of solar power – An overview</dc:title>
</cp:coreProperties>
</file>